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FD61-8551-47C0-ADFA-BBE9F064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87EB-52E0-47E5-8887-4A82DC28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7BA6E-8DD5-40F2-91EB-3300BD41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C18DF-F53D-4E56-9551-711129EA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13C1B-8B37-4FFF-B5BC-64268B28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7E1D1-9F58-46F9-BE22-2F553B18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30240-12FD-45D4-99C1-BD0975A6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B982A-7EF1-4782-B4CB-350F1087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33F19-201D-4436-B05C-FA5DF552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64E13-A7CF-4DF1-BD15-83221C005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23F0A-D302-4C53-B3C0-CC25D362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EABF6-A605-4F96-AE2C-DD69CB17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6687-2A0F-4BF2-B4FB-B778CC7B5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08592-27DA-4F18-9812-3CDF1B46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4DA56-CF63-4D72-B741-CB555D64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C6434-CF27-4C18-A2A7-E809765D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ABF79-5341-402C-9F90-210074DC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FAF93-C9F8-48BC-83C6-A9EFC2CB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EF487-EC9F-44F2-B04D-ED97664D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0C1F2-13F5-4741-A032-28D8D529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09E4E-2F51-431E-A363-BBAC3C84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0198C-BB21-4678-9AF9-46F96787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B25B2-6D6D-4DF5-BB69-8D76F3B8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1AAD-E4BC-419C-A137-E54F9933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E9880-85F1-4682-B623-D601B37C2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1D1B27-8D87-4D2E-96E7-10FF6007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6BC0B5-0C26-426E-B3F8-04A89DB7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CBF8E5-1B38-4814-92CE-83E6C44A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D75F5C-2DC1-4FE6-B793-3A438506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6DDD93-91A6-4527-83B6-9A6B60F9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1D61AD-3AFD-4381-84A3-48AD2968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9F553A-5172-4E5D-A057-E8580885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37CF54-ECF9-4075-AB62-735F61A4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F62DD7-DCCB-4DCE-977C-282F5D1B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C234-0629-4909-A5D9-009B1C29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53F2EE-AD43-4316-AECE-91C589D8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43B17B-D786-4A56-A113-C467D9AC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730379-3E89-4E90-82B8-59CE61EE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91C0D-FD14-44F4-9A4C-EC963A4F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88707-1D53-4FE5-9EF7-3437838D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02C94-8CEE-456E-8C47-B3A70CA2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6FEC94-1B6D-4D3B-A3FF-79E78B9B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47582-66C2-441C-B852-A2B3B4C7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D9D07-5C4D-45C7-94C9-FE159483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CCA63-ED73-47B2-870A-A2E4CFD2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0677-9995-442E-9873-04015F76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8C92C-DA7B-4610-BA79-8034753E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58E3C-8846-4A3E-A740-DBB331B7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F02D1-752D-44B3-A3A2-F7B558B8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D3281-CE2A-41C8-BAE5-A9B0EECB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D6747-080A-4BCD-8670-FE70B5AE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65A6-63DB-48D4-A5C5-95113DD0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9915-28E6-4363-8DA3-ABAC4B7F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60B5-1E6C-4F45-84E3-E60E559C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0936-B488-4B4A-9523-E23C4229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A5B6-3421-4CBC-B401-1690C8FD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17CE-9BD1-4E4E-83E7-677D5618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8D5F-8045-4B46-A9AF-A06A7CB8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09BB-8D1F-453C-ABF6-C402FEBF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466D-1C2B-4DAD-BBAD-400C0160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AEAC-50C1-40B9-9A6F-275287D1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7B48-232D-41D7-8782-BE1370D5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76EC7-031B-401B-9079-9CC17291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AEFA7-2238-4E17-BFFB-E0FC0BC6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E4616-6C8D-4277-961C-936D667B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F581F-9378-423D-920F-480076EE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18F99-CC24-43F1-A6E3-B9CDE819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09A3-F6D9-4DF3-8602-8F0D0A43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2CB44-64D2-406D-A59C-55FC6837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AAE48-475B-44E0-842D-0BBD08C7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6D3C8-12A1-4912-955B-1A0A0A80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1737E-55E1-40E6-BF34-7F17B63C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0DCF2-887C-4353-93F9-8882BDBA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C4F89-708A-4CA9-9056-8B1F034F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E96F0-59D6-4C59-8A7A-4A11B2B9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0C6810-132D-466D-B4B2-C4BA6B3B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5B4EBF-2175-46EF-B04D-AACA95F9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7BF525-54B7-42F8-83FE-DAF23E66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FAE6-0975-4058-8D8C-E4814AFA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E64C73-5B7A-4CA7-B742-BCE07B82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9D9190-8319-4D32-88D4-BC48AD85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FC11D2-F6D4-4B7C-9804-4979F02E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057800-32E7-451D-8BB9-7AC9AA48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82687F-8DC5-4745-BC27-2F434A37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BBCA70-D943-44E9-8DF7-EB841259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D7D010-737C-4E7A-AE10-AF796FE5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70D8D8-A0A6-4736-9CC1-80BD2D11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051A3B-3DD4-48AF-B70F-6A76858B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72D3C-89FB-4697-BBB7-6BFD595A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C123-40A5-4CE1-AD6F-D571B50A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A4D9E-8799-4BD8-B7E1-7529F94C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2D9ED-EAB4-49B6-A991-BA3AD88D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5B8C5-A767-4E86-BE02-15EF0276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70EEA-CE8E-4B01-8C47-0206C1FD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AAD51-B5E4-4E68-B06D-7DDA1EA4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AB3EF-860F-44A5-8C24-466DAF02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1F58B-3C20-4A37-9590-AA62A886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91EE5-9962-4DF2-B41E-373E99F4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1C078-5583-407E-96AE-EA81A13B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419AC-15B7-4656-A4A2-FE38AABB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BCE3-DDCF-49FB-B732-1DADBD83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7F2E6-31AF-4521-B327-88D09BDB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740A9-2AA7-42C3-A0CD-5B1A737D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50E96-0AA7-43D2-8007-E662C8A1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300E2-D6DB-44C8-A0DC-B1BE819C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F8848-280D-4685-B971-F9AD734E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2E2CE-B6C3-4ACB-928F-5E14C770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F710A-8AA3-4088-9990-71F4573B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3FA94-4EFB-46EF-9BB2-3CCDB4C9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F1C31-E843-40C1-9538-554A41C9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A1525-E43C-4928-8DB0-FCAAF58A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4108-0E9D-48AD-B896-7B08F17C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B4BE7-9D7D-42DB-AC8C-D2C4D9B2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1EC5F-7983-4A28-BE4E-A2B15F42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5DADE-82F4-44CC-8F22-50B90920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E3B3C-A35B-43E5-91AB-A0521A08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04972-1AD5-4D06-BE0D-DE78090D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3D273-775B-46D7-AD44-EF098B24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3F92B-156B-4C1A-96BA-309316FB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73795-147F-4BCD-A4E4-CE2324CE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B5466-F8B7-45CD-9B77-B0BE31FE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268DB-0C65-498A-8E07-BD1CAB1E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8D57-3BF8-4283-8A25-9F2E07FB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267FF-3C61-4181-A0FD-577396A3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D69D5-02D3-4856-9F28-858AC961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64F18-9828-4E33-863F-C1F4F389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B8633-27EB-4040-8614-F86961EB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48DCE-769F-4A4D-A4FD-AE312F88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34F8B-3DAF-40B5-BDF5-45B48A31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E1BB4-05F1-4C87-B348-11D4C05D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35797-8B4F-4623-9E4A-AD0D366A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4C44B-D018-4262-8369-1DF2DEBE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A00A5-2DA0-4494-BEDA-2D33EA15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D755-85AE-42AF-BDCC-B15CC438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C60E5-CD82-4F8B-97A5-65408801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078E2-60EB-4371-B94F-717D1F1B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173AA-90B2-4F39-B061-28C3D105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6DC30-99D9-4D0B-895F-435137DA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271BB-16E7-4333-900E-2F1E4C68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1407F-EBA3-447A-9D5A-04DAA1D3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A3B77-3D8A-4C86-90A3-FC82760A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76368-737D-4D4A-BB33-5B6270AA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AE918-1966-4287-BD1E-5C3F065E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C0941-E2EC-46F8-B211-99924E93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318F-D878-4F0A-B517-26A02DB206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4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0623-AF84-41EB-BBAD-D7AAD8141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E507-EB6D-4F0A-A8B0-703229E6D8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9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4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4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6E74-1575-452E-92C3-BABE38351A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CAAC-C450-4D58-A4F8-99CF77B675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0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0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99C7-4083-4CB2-8F4A-2161932CCC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6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6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6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D91C-03F6-46FE-BA6E-58598E59B0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23D9-9494-474C-8A89-8053CD19A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8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FB2A-C0B4-47CC-94CD-435E509EF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40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44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69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E36A-0DDB-457F-A0F9-E87B923D149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18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22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B21E-A518-43F6-9D5A-3197822D6F6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9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6E27-E5C7-4D95-9EF5-331F7B92A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7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2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6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611280" y="1484280"/>
            <a:ext cx="7777080" cy="403236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тре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ужны ли нам стресс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еобходим, чтобы достичь пика в работ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Это двигатель прогресса в нашей жизн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 каждого индивидуума свой пик продуктивност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Что нужно делать чтобы не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ришли к моральному срыву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алансировать свои нужд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Забота о себе и других в хорошем баланс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иды стресс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Положительные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свадьба, рождение ребенка, выбор профессии, любов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Отрицательные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нагрузка на работе, болезни, ссоры, финансовые и  семейные проблемы, смерть близких, страх, опасность, плохая окружающая сре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997000"/>
            <a:ext cx="83851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ффекты стрес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95280" y="83664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"/>
              </a:rPr>
              <a:t>РЕАКЦИЯ ОРГАНИЗМА НА ВНЕЗАПНЫЙ СТРЕСС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изический: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д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ащение сердцеби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сокращения серд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кровотока к активным мышц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лабление кровотока в областях, не задействованных в ответной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зрач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брон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еличение силы мыш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вобождение глюкозы печен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умствен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корение метабол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954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4" name=""/>
          <p:cNvGraphicFramePr/>
          <p:nvPr/>
        </p:nvGraphicFramePr>
        <p:xfrm>
          <a:off x="6172200" y="1371600"/>
          <a:ext cx="1676520" cy="12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1371600"/>
                    <a:ext cx="167652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7162920" y="5181480"/>
          <a:ext cx="1981080" cy="89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2920" y="5181480"/>
                    <a:ext cx="19810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8" name="" descr=""/>
          <p:cNvPicPr/>
          <p:nvPr/>
        </p:nvPicPr>
        <p:blipFill>
          <a:blip r:embed="rId6"/>
          <a:stretch/>
        </p:blipFill>
        <p:spPr>
          <a:xfrm>
            <a:off x="7696080" y="2666880"/>
            <a:ext cx="962280" cy="12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3851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Моральный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забывчив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возможность сосредоточи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аздражение , па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сложность принятия ре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убитое со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азочар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Психический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торванность от общ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возможность выслушать друг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контролируемое время разгов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ищет шу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фокусировка на отрицательном эффек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т сдержанности в общ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7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Духовный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теряют цель и смысл жи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бвиняют окружающ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бвиняют Бо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 txBox="1"/>
          <p:nvPr/>
        </p:nvSpPr>
        <p:spPr>
          <a:xfrm>
            <a:off x="611280" y="1557360"/>
            <a:ext cx="81374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 предупредить стрес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8964720" y="6678720"/>
            <a:ext cx="179280" cy="17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28033" fill="hold"/>
                                        <p:tgtEl>
                                          <p:spTgt spid="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4560" y="2166840"/>
            <a:ext cx="8762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Arial"/>
              </a:rPr>
              <a:t>СЕМЬ КЛЮЧЕЙ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1752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2895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4"/>
          <a:stretch/>
        </p:blipFill>
        <p:spPr>
          <a:xfrm>
            <a:off x="411480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5"/>
          <a:stretch/>
        </p:blipFill>
        <p:spPr>
          <a:xfrm>
            <a:off x="5334120" y="4724280"/>
            <a:ext cx="990360" cy="70488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7"/>
          <a:stretch/>
        </p:blipFill>
        <p:spPr>
          <a:xfrm>
            <a:off x="7696080" y="4724280"/>
            <a:ext cx="990720" cy="704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Состояние,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возникающее при действии чрезвычайных или патологических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раздражителей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 приводящих к напряжению неспецифических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адаптационных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механизмов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рганизм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СТРЕССОРЫ И СТРЕСС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2286000" y="236232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latin typeface="Arial"/>
              </a:rPr>
              <a:t>Давление извне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76720" y="39592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есс – это ваша реакция на стресс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746440" cy="243684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6588000" y="3962520"/>
            <a:ext cx="2082960" cy="229068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4495680" y="1219320"/>
            <a:ext cx="0" cy="1371600"/>
          </a:xfrm>
          <a:prstGeom prst="line">
            <a:avLst/>
          </a:prstGeom>
          <a:ln w="38412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3886200" cy="1974960"/>
          </a:xfrm>
          <a:prstGeom prst="rect">
            <a:avLst/>
          </a:prstGeom>
          <a:ln w="0">
            <a:noFill/>
          </a:ln>
        </p:spPr>
      </p:pic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440" y="83880"/>
            <a:ext cx="792468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РАЗУМНОЕ ПРИСПОСОБЛЕНИЕ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828800" cy="174780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3"/>
          <a:stretch/>
        </p:blipFill>
        <p:spPr>
          <a:xfrm>
            <a:off x="7086600" y="5067360"/>
            <a:ext cx="1143000" cy="110484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762120" y="1752480"/>
            <a:ext cx="8153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азумное приспособ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одразумевает либо устранение стрессора, либо приспособление к н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еразумное приспособ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избегание или отрицание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4"/>
          <a:stretch/>
        </p:blipFill>
        <p:spPr>
          <a:xfrm>
            <a:off x="175248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2895480" cy="258156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120"/>
            <a:ext cx="77724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5e5ff"/>
                </a:solidFill>
                <a:latin typeface="Garamond"/>
              </a:rPr>
              <a:t>ЗДОРОВЫЙ ОБРАЗ </a:t>
            </a:r>
            <a:r>
              <a:rPr b="0" lang="en-US" sz="5000" spc="-1" strike="noStrike">
                <a:solidFill>
                  <a:srgbClr val="e5e5ff"/>
                </a:solidFill>
                <a:latin typeface="Garamond"/>
              </a:rPr>
              <a:t>ЖИЗНИ</a:t>
            </a:r>
            <a:endParaRPr b="1" lang="en-US" sz="5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ОЛНОЦЕННОЕ ПИТА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УПРАЖН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5759280" y="2590920"/>
            <a:ext cx="1175040" cy="365760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3"/>
          <a:stretch/>
        </p:blipFill>
        <p:spPr>
          <a:xfrm>
            <a:off x="2286000" y="4191120"/>
            <a:ext cx="2133720" cy="199872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761760" cy="541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29196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ПЛАНИРОВАНИЕ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«Ибо кто из вас, желая построить башню, не сядет прежде и не вычислит издержек, имеет ли он, что нужно для совершения ее, дабы, когда положит основание и не возможет совершить, все видящие не стали смеяться над ним».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Луки 14:28,2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1066680"/>
            <a:ext cx="2855880" cy="495324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Е БЕСПОКОЙТЕСЬ О БУДУЩЕ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2268360"/>
            <a:ext cx="80773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к не заботьтесь о завтрашнем дне, ибо завтрашний сам будет заботиться о своем: довольно для каждого дня своей заботы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ангелие от Матфея 6: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28240" y="16812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ЗИТИВНОЕ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ЫШ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676520"/>
            <a:ext cx="79246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конец, братия мои, что только истинно, что честно, что справедливо, что чисто, что любезно, что достославно, что только добродетель и похвала, о том помышляйт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Филиппийцам 4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762120" cy="54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67000" cy="358596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168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УШЕВНЫЙ ПОКОЙ И ИСЦЕ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09480" y="1600200"/>
            <a:ext cx="8153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понтанная регрессия рака может быть тесно связана с душевным состоянием свободным от беспокой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09480" y="3257640"/>
            <a:ext cx="800100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 требовательная молитва о конкретном исходе, включая устранения рака, предшествует исцелению, а смиренное молитвенное состояние, посвящение Богу и принятие Его вол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ри Доссей «Исцеляющие слова: сила                          молитвы и медицинская практ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78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ПОМОЩЬ ДРУГИМ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«Раздели с голодным хлеб твой, и скитающихся бедных введи в дом; когда увидишь нагого, одень его, и от единокровного твоего не укрывайся. Тогда откроется, как заря, свет твой, и </a:t>
            </a:r>
            <a:r>
              <a:rPr b="0" i="1" lang="en-US" sz="3000" spc="-1" strike="noStrike">
                <a:solidFill>
                  <a:srgbClr val="ffffff"/>
                </a:solidFill>
                <a:latin typeface="Verdana"/>
              </a:rPr>
              <a:t>исцеление твое скоро возрастет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, и правда твоя пойдет пред тобою, и слава Господня будет сопровождать тебя»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Исаия 28:7,8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ДОВЕРИЕ БОГ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990720"/>
            <a:ext cx="571500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«Мы отовсюду притесняемы, но не стеснены; мы в отчаянных обстоятельствах, но не отчаиваемся; мы гонимы, но не оставлены; низлагаемы, но не погибаем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е Коринфянам 4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648320" cy="340992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07440"/>
            <a:ext cx="77724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ХРИСТОС В СЕРДЦ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Кто отлучит нас от любви Божией: скорбь, или теснота, или гонение, или голод, или нагота, или опасность, или меч?… Но все сие преодолеваем силою Возлюбившего нас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Римлянам 8:35,3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2622600" cy="480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179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95280" y="2492280"/>
            <a:ext cx="8352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тресс = стрессор + реакц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132000" y="4221000"/>
            <a:ext cx="48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%                                                     90%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3ff"/>
                </a:solidFill>
                <a:latin typeface="Arial"/>
              </a:rPr>
              <a:t>СЕМЬ КЛЮЧЕЙ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умное приспособ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ренность в будущ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итивное мыш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мощь друг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верие Бог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228600" y="17305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4"/>
          <a:stretch/>
        </p:blipFill>
        <p:spPr>
          <a:xfrm>
            <a:off x="152280" y="3581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5"/>
          <a:stretch/>
        </p:blipFill>
        <p:spPr>
          <a:xfrm>
            <a:off x="152280" y="4114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6"/>
          <a:stretch/>
        </p:blipFill>
        <p:spPr>
          <a:xfrm>
            <a:off x="152280" y="4724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7"/>
          <a:stretch/>
        </p:blipFill>
        <p:spPr>
          <a:xfrm>
            <a:off x="152280" y="5334120"/>
            <a:ext cx="457200" cy="32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Стресс – это не то, что случается с нами, а то, как мы реагируем на это 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тревоги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билизация исходных си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резистентности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сопротивления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ознание и борьба с не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истощения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ндром приобретает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тогенный характ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619280" y="620640"/>
            <a:ext cx="6481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щий адаптационный синдром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46044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ТАДИИ СТРЕС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Реакция тревог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Состояние сопротивл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Стадия истощ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1600200" cy="142092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7315200" y="2895480"/>
            <a:ext cx="1523880" cy="150516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1755720" cy="147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пределяется реактивностью орган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еактивность зависит от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наследственных свойств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ранее перенесенных воздействи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возрас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692360" y="404640"/>
            <a:ext cx="6551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арактер стресс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Исход стресс-реак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зврат к первоначальному состоянию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зникновение болезн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89720" cy="457200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БОЛЕЗНИ СВЯЗАННЫЕ СО СТРЕССО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ердечно-сосудистые заболева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Ра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Депресс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тенокард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Диабе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Туберкулёз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Ревматоидный артри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иперто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Язвы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48320" y="2209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оловные бо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Аллерг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остуд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едменструальный синдр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Бородав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ыпь на кож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Выпадение воло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одагр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ерпе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71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Болезни, одной из причин которых может быть стрес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8T05:29:31Z</dcterms:created>
  <dc:creator>cb</dc:creator>
  <dc:description/>
  <dc:language>en-US</dc:language>
  <cp:lastModifiedBy>cb</cp:lastModifiedBy>
  <dcterms:modified xsi:type="dcterms:W3CDTF">2006-03-19T18:34:47Z</dcterms:modified>
  <cp:revision>13</cp:revision>
  <dc:subject/>
  <dc:title>Стресс</dc:title>
</cp:coreProperties>
</file>